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DAA-3850-45ED-B6A2-21F88372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A0E-488E-4128-90AD-180B48D5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8510-3D88-4F8A-B812-EC257199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B81-00C5-41A5-9CF7-91387398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080A-BA2C-432F-BB8E-5A288BCB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836D-2E5A-49FF-B074-7F1A63A1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B4F5-C613-4548-A1E5-A240D752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E107-C071-46FF-8FDB-79DDB9F5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8742-F09F-4C0C-9982-FBD2E764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306E-3C88-40B8-A9AD-1D7C7B5B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EACC-04A1-443E-9CBE-4EF26B63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526-AC44-480E-8A55-1D6EED8B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4035-5366-40F9-9361-5393DB39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5CA2-F7C2-4E32-9020-0B3DA132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4780-B96E-438E-A7ED-81554D8F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EB92-DC10-4F99-9076-B3E4D1FA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508D-E7E3-41B6-B867-DB5ABA29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C71-86E2-491B-A0E5-026669C8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D92-2103-4785-827E-85BCFBD2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7D2-8F5D-40DF-B82F-C17F16D0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B2B-EEDB-49BF-BE6D-FBFE063A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CD8-1BFA-4CE0-A801-137E8469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E18-0C6B-4878-9C74-A66A4741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792-9056-418F-B461-6A82C052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29DB-0B71-422F-8157-B2FC32CCB0AD}" type="slidenum"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8D99-CCE9-4BD8-A9DF-0181923AFDC9}" type="slidenum"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a566e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a566e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a566e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4672080" cy="3067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838080" y="1523880"/>
            <a:ext cx="5181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wton's Law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867280"/>
            <a:ext cx="5181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Linda L. Smith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NASA Astrophysics Educator Ambassador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467000"/>
            <a:ext cx="79246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Figure Skater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42670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To begin moving,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A figure skater must apply a force using her skates.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Once in motion,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She’ll continue to glide along the ice in a straight line for a long time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Unless she applies another force.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50292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Tug of War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0381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When each end of a rope is pulled,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the rope will move in the direction of whoever is pulling harder</a:t>
            </a:r>
            <a:br>
              <a:rPr sz="1900"/>
            </a:b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 whoever is applying more force.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In this case, the magnitude or strength of A (on the right)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is greater than that of B (on the left),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so the rope accelerates to the right.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772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Snowboarder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62160" y="167616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 snowboarder experiences a force due to gravity which pulls her down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She will move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in a straight line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unless she applies </a:t>
            </a:r>
            <a:br>
              <a:rPr sz="2600"/>
            </a:b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 force to the board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changing direction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297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Train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 train is a very massive object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nd therefore has a lot of inertia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Once in motion, it is very difficult to stop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requiring a very large force to slow it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4777"/>
          <a:stretch/>
        </p:blipFill>
        <p:spPr>
          <a:xfrm>
            <a:off x="914400" y="1523880"/>
            <a:ext cx="7315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Jogger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9000" y="1752120"/>
            <a:ext cx="5562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 jogger experiences many forces while running: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Gravity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The push of her feet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Friction of her shoes on the ground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ir resistance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Her legs, together with the friction of her shoes, overcomes her inertia to propel her forward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60028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ar Hitting a Wall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41907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A car rolling down a hill is being moved by the force of gravity.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When the car hits the wall, the greater inertia of the wall stops it.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But anything not attached to the car will still move forward,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So the man running after the car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will lose his coffee, his lunch, and his briefcase.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437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01:23:52Z</dcterms:created>
  <dc:creator>Linda L. Smith</dc:creator>
  <dc:description/>
  <cp:keywords/>
  <dc:language>en-US</dc:language>
  <cp:lastModifiedBy>Linda L. Smith</cp:lastModifiedBy>
  <dcterms:modified xsi:type="dcterms:W3CDTF">2008-07-06T01:57:04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51033</vt:lpwstr>
  </property>
</Properties>
</file>